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24D-9B20-4F11-8B96-9316854C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2D6-F19E-4AE8-A176-41025AA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9A5-C05C-49EF-9F02-CD6531DE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757-BF8C-42B8-8857-FEBC49A8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634-34A7-4928-A532-8FB4BE81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F5C-0758-4E91-BAD3-C41D7311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200-796D-42B7-8936-BCA22C3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EE0-584C-40FC-8AB9-C2D7A2C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FC3-835A-4154-AF46-05F54B9D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95E-6FE7-4B2D-A6DA-01BD9E1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EC1-3698-4257-83A7-A5CEEC7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BB0-0BD2-4FCA-BB72-96057B82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ED3-5D9D-4364-B87E-5AB9BD53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грях окован, аз пъш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тъма и леден мр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от онз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церителен поток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е Твойта кръв свеще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мива всек по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97920"/>
            <a:ext cx="9147240" cy="6888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каян скитник ви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помощ в този ч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в съмнени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т Твоят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а ми оправя път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ен да е покр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8800"/>
            <a:ext cx="9147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ла, живей в сърце м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е съм блажен тог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А после в вечна слав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сияйни висот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рце ми ще възпяв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еличието 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39:52Z</dcterms:created>
  <dc:creator>TrifonTrifonow</dc:creator>
  <dc:description/>
  <dc:language>en-US</dc:language>
  <cp:lastModifiedBy>TrifonTrifonow</cp:lastModifiedBy>
  <dcterms:modified xsi:type="dcterms:W3CDTF">2005-11-22T07:20:48Z</dcterms:modified>
  <cp:revision>6</cp:revision>
  <dc:subject/>
  <dc:title>Slide 1</dc:title>
</cp:coreProperties>
</file>